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9CA63-3CB1-4CD0-96F3-338A2C4CE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13D3C-5F1B-499E-BF10-79A356DED18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1B97E-6603-403F-866A-AB8AE84DEA1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BF9BD-C2DD-46F0-9FFA-4C40A652BF9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9A220-8368-4BE9-8643-484F414FF16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2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1B1E4198-248D-4CD5-B688-D12D801FAB58}"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78E9D-3B28-4BF6-928F-50DB9342B89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slide that showcases last page of Ideas into Action monograph </a:t>
            </a:r>
            <a:r>
              <a:rPr b="0" lang="en-US" sz="1200" spc="-1" strike="noStrike">
                <a:solidFill>
                  <a:srgbClr val="000000"/>
                </a:solidFill>
                <a:latin typeface="Wingdings"/>
                <a:ea typeface="Wingdings"/>
              </a:rPr>
              <a:t></a:t>
            </a:r>
            <a:r>
              <a:rPr b="0" lang="en-US" sz="1200" spc="-1" strike="noStrike">
                <a:solidFill>
                  <a:srgbClr val="000000"/>
                </a:solidFill>
                <a:latin typeface="Calibri"/>
              </a:rPr>
              <a:t> links to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9BB38-60BD-4C65-9831-1353E5B004C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2EF94-A27B-4023-9827-EB16E8538D6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used in a cross-curricular, integrated manner?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PIE FOR THE END OF DAY 2 – ELLEN WILL SEND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3CB58-C78C-4546-B37D-4F61F705420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CFF81-B9DF-44DD-958A-66F977695AB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659DC-5D23-40CB-B05A-7915A00D5D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ld reference back to four corners activity and comments they shared earlier that we can connect to this</a:t>
            </a: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28FAD-62C4-419C-8BC3-759128AAB56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FBD7F-E85B-4E84-846F-E8EC6AE1A2D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28278-D01B-459D-A6E3-613E124D9D0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E5850-B77D-43C8-A638-AA1780222E7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C018E-66C8-460F-A095-1DCB5C3157C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64A45-82CC-4DF4-8200-EADD831399D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102B7-A16A-4494-AAF2-9492771EEB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6240" y="687240"/>
            <a:ext cx="4567320" cy="3426120"/>
          </a:xfrm>
          <a:prstGeom prst="rect">
            <a:avLst/>
          </a:prstGeom>
          <a:ln w="0">
            <a:noFill/>
          </a:ln>
        </p:spPr>
      </p:sp>
      <p:sp>
        <p:nvSpPr>
          <p:cNvPr id="21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7ACC2-0CE5-490D-9DE4-72C182CF88E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4CB94-C356-4848-875D-88718B6FB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6730A-AC93-48EC-98A1-8AC001ED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5D802-98F5-4BAA-BE00-D1DE07427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A41C-7841-48A9-8E29-F5F80AB94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B7082-2296-46A8-A6DB-0336AE328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1E831-3F2E-4BF4-9D93-93083D2D0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A9D3-7BC8-4039-8911-5F726F42C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3751-2C87-4C7B-AF6E-22E8D9C96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72858-298C-42B7-8671-A9E5AC1DC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62594-9127-4B12-9C4B-416E2060A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0D114-1DEF-4D3A-832B-E6136C7C9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84511-7CD3-4662-9DD8-E6E8D5D8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03780-3A20-40AE-AB15-23231FFB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3C55-A4C3-4B67-A7DC-A2F430728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AA0D3-659F-4038-87B0-E236FC751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F6DA4-BD97-48BF-87A2-B803E6AAF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6F2ED-8D9A-4FB2-AB83-D11D81F35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2709-9F8C-4AE4-9E5B-C7BAF90D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9B1FB-3641-43A2-8AC5-BD61FC1E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20A1-B817-4F49-89E3-F2DC5B54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4D0E-FA13-48CE-B77E-8DB441EE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B7D6-DDD1-4603-8C4F-A9FD1231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1295B-CD09-490B-ABAE-674A97EC5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0632-8752-4964-832E-7B7805EB4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D5E9B-ECB1-4F30-8B2C-CCC7DA863F4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7FFB5-48C1-4291-A83F-BBF9A0B184D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4"/>
          <p:cNvGrpSpPr/>
          <p:nvPr/>
        </p:nvGrpSpPr>
        <p:grpSpPr>
          <a:xfrm>
            <a:off x="1128600" y="757080"/>
            <a:ext cx="7796160" cy="4741560"/>
            <a:chOff x="1128600" y="757080"/>
            <a:chExt cx="7796160" cy="4741560"/>
          </a:xfrm>
        </p:grpSpPr>
        <p:grpSp>
          <p:nvGrpSpPr>
            <p:cNvPr id="141" name="Group 23"/>
            <p:cNvGrpSpPr/>
            <p:nvPr/>
          </p:nvGrpSpPr>
          <p:grpSpPr>
            <a:xfrm>
              <a:off x="1128600" y="757080"/>
              <a:ext cx="7796160" cy="4741560"/>
              <a:chOff x="1128600" y="757080"/>
              <a:chExt cx="7796160" cy="4741560"/>
            </a:xfrm>
          </p:grpSpPr>
          <p:grpSp>
            <p:nvGrpSpPr>
              <p:cNvPr id="142" name="Group 22"/>
              <p:cNvGrpSpPr/>
              <p:nvPr/>
            </p:nvGrpSpPr>
            <p:grpSpPr>
              <a:xfrm>
                <a:off x="1128600" y="757080"/>
                <a:ext cx="7796160" cy="4741560"/>
                <a:chOff x="1128600" y="757080"/>
                <a:chExt cx="7796160" cy="4741560"/>
              </a:xfrm>
            </p:grpSpPr>
            <p:pic>
              <p:nvPicPr>
                <p:cNvPr id="143" name="Picture 1" descr=""/>
                <p:cNvPicPr/>
                <p:nvPr/>
              </p:nvPicPr>
              <p:blipFill>
                <a:blip r:embed="rId1"/>
                <a:stretch/>
              </p:blipFill>
              <p:spPr>
                <a:xfrm>
                  <a:off x="1128600" y="1635120"/>
                  <a:ext cx="6054120" cy="3863520"/>
                </a:xfrm>
                <a:prstGeom prst="rect">
                  <a:avLst/>
                </a:prstGeom>
                <a:ln w="0">
                  <a:noFill/>
                </a:ln>
              </p:spPr>
            </p:pic>
            <p:sp>
              <p:nvSpPr>
                <p:cNvPr id="144" name="Rectangle 19"/>
                <p:cNvSpPr/>
                <p:nvPr/>
              </p:nvSpPr>
              <p:spPr>
                <a:xfrm rot="19693800">
                  <a:off x="6483600" y="1268280"/>
                  <a:ext cx="1601280" cy="1290600"/>
                </a:xfrm>
                <a:prstGeom prst="rect">
                  <a:avLst/>
                </a:prstGeom>
                <a:solidFill>
                  <a:srgbClr val="b1d9f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5" name="AutoShape 4"/>
                <p:cNvSpPr/>
                <p:nvPr/>
              </p:nvSpPr>
              <p:spPr>
                <a:xfrm>
                  <a:off x="6906240" y="945000"/>
                  <a:ext cx="1421280" cy="1112760"/>
                </a:xfrm>
                <a:prstGeom prst="triangle">
                  <a:avLst>
                    <a:gd name="adj" fmla="val 50000"/>
                  </a:avLst>
                </a:prstGeom>
                <a:solidFill>
                  <a:srgbClr val="df5fd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6" name="Oval 7"/>
                <p:cNvSpPr/>
                <p:nvPr/>
              </p:nvSpPr>
              <p:spPr>
                <a:xfrm rot="277200">
                  <a:off x="7279200" y="149832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ASK</a:t>
                  </a:r>
                  <a:endParaRPr b="0" lang="en-US" sz="800" spc="-1" strike="noStrike">
                    <a:solidFill>
                      <a:srgbClr val="262626"/>
                    </a:solidFill>
                    <a:latin typeface="Arial"/>
                  </a:endParaRPr>
                </a:p>
              </p:txBody>
            </p:sp>
            <p:sp>
              <p:nvSpPr>
                <p:cNvPr id="147" name="Text Box 8"/>
                <p:cNvSpPr/>
                <p:nvPr/>
              </p:nvSpPr>
              <p:spPr>
                <a:xfrm>
                  <a:off x="7171560" y="757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Student</a:t>
                  </a:r>
                  <a:r>
                    <a:rPr b="0" lang="en-CA" sz="1800" spc="-1" strike="noStrike">
                      <a:solidFill>
                        <a:srgbClr val="262626"/>
                      </a:solidFill>
                      <a:latin typeface="Arial"/>
                    </a:rPr>
                    <a:t>	</a:t>
                  </a:r>
                  <a:endParaRPr b="0" lang="en-US" sz="1800" spc="-1" strike="noStrike">
                    <a:solidFill>
                      <a:srgbClr val="262626"/>
                    </a:solidFill>
                    <a:latin typeface="Arial"/>
                  </a:endParaRPr>
                </a:p>
              </p:txBody>
            </p:sp>
            <p:sp>
              <p:nvSpPr>
                <p:cNvPr id="148" name="Text Box 9"/>
                <p:cNvSpPr/>
                <p:nvPr/>
              </p:nvSpPr>
              <p:spPr>
                <a:xfrm>
                  <a:off x="5498640" y="1561320"/>
                  <a:ext cx="74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Teacher/Students</a:t>
                  </a:r>
                  <a:endParaRPr b="0" lang="en-US" sz="800" spc="-1" strike="noStrike">
                    <a:solidFill>
                      <a:srgbClr val="262626"/>
                    </a:solidFill>
                    <a:latin typeface="Arial"/>
                  </a:endParaRPr>
                </a:p>
              </p:txBody>
            </p:sp>
            <p:sp>
              <p:nvSpPr>
                <p:cNvPr id="149" name="Text Box 11"/>
                <p:cNvSpPr/>
                <p:nvPr/>
              </p:nvSpPr>
              <p:spPr>
                <a:xfrm>
                  <a:off x="6451920" y="304128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Look Fors </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Classroom Resources</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0" name="Text Box 13"/>
                <p:cNvSpPr/>
                <p:nvPr/>
              </p:nvSpPr>
              <p:spPr>
                <a:xfrm>
                  <a:off x="7998840" y="2171160"/>
                  <a:ext cx="925920" cy="70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Goal</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Success Criteria</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Tools</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IEP</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1" name="Text Box 15"/>
                <p:cNvSpPr/>
                <p:nvPr/>
              </p:nvSpPr>
              <p:spPr>
                <a:xfrm>
                  <a:off x="7197480" y="1777680"/>
                  <a:ext cx="86040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LEARN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SELF-MONITOR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262626"/>
                    </a:solidFill>
                    <a:latin typeface="Arial"/>
                  </a:endParaRPr>
                </a:p>
              </p:txBody>
            </p:sp>
            <p:sp>
              <p:nvSpPr>
                <p:cNvPr id="152" name="Line 20"/>
                <p:cNvSpPr/>
                <p:nvPr/>
              </p:nvSpPr>
              <p:spPr>
                <a:xfrm flipV="1">
                  <a:off x="5943240" y="1743840"/>
                  <a:ext cx="1591560" cy="768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53" name="Text Box 21"/>
                <p:cNvSpPr/>
                <p:nvPr/>
              </p:nvSpPr>
              <p:spPr>
                <a:xfrm rot="19785600">
                  <a:off x="3847320" y="357480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Board Lead/</a:t>
                  </a:r>
                  <a:br>
                    <a:rPr sz="800"/>
                  </a:br>
                  <a:r>
                    <a:rPr b="0" lang="en-CA" sz="800" spc="-1" strike="noStrike">
                      <a:solidFill>
                        <a:srgbClr val="262626"/>
                      </a:solidFill>
                      <a:latin typeface="Arial"/>
                    </a:rPr>
                    <a:t>Consultant</a:t>
                  </a:r>
                  <a:endParaRPr b="0" lang="en-US" sz="800" spc="-1" strike="noStrike">
                    <a:solidFill>
                      <a:srgbClr val="262626"/>
                    </a:solidFill>
                    <a:latin typeface="Arial"/>
                  </a:endParaRPr>
                </a:p>
              </p:txBody>
            </p:sp>
            <p:sp>
              <p:nvSpPr>
                <p:cNvPr id="154" name="Text Box 22"/>
                <p:cNvSpPr/>
                <p:nvPr/>
              </p:nvSpPr>
              <p:spPr>
                <a:xfrm rot="19744200">
                  <a:off x="2543760" y="4383000"/>
                  <a:ext cx="52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District </a:t>
                  </a:r>
                  <a:br>
                    <a:rPr sz="800"/>
                  </a:br>
                  <a:r>
                    <a:rPr b="0" lang="en-CA" sz="800" spc="-1" strike="noStrike">
                      <a:solidFill>
                        <a:srgbClr val="262626"/>
                      </a:solidFill>
                      <a:latin typeface="Arial"/>
                    </a:rPr>
                    <a:t>Lead</a:t>
                  </a:r>
                  <a:endParaRPr b="0" lang="en-US" sz="800" spc="-1" strike="noStrike">
                    <a:solidFill>
                      <a:srgbClr val="262626"/>
                    </a:solidFill>
                    <a:latin typeface="Arial"/>
                  </a:endParaRPr>
                </a:p>
              </p:txBody>
            </p:sp>
            <p:sp>
              <p:nvSpPr>
                <p:cNvPr id="155" name="Text Box 23"/>
                <p:cNvSpPr/>
                <p:nvPr/>
              </p:nvSpPr>
              <p:spPr>
                <a:xfrm rot="19611600">
                  <a:off x="5295960" y="2877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Coach</a:t>
                  </a:r>
                  <a:endParaRPr b="0" lang="en-US" sz="800" spc="-1" strike="noStrike">
                    <a:solidFill>
                      <a:srgbClr val="262626"/>
                    </a:solidFill>
                    <a:latin typeface="Arial"/>
                  </a:endParaRPr>
                </a:p>
              </p:txBody>
            </p:sp>
            <p:sp>
              <p:nvSpPr>
                <p:cNvPr id="156" name="Text Box 24"/>
                <p:cNvSpPr/>
                <p:nvPr/>
              </p:nvSpPr>
              <p:spPr>
                <a:xfrm rot="19840800">
                  <a:off x="6676560" y="2096280"/>
                  <a:ext cx="47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Tutor or Self</a:t>
                  </a:r>
                  <a:endParaRPr b="0" lang="en-US" sz="800" spc="-1" strike="noStrike">
                    <a:solidFill>
                      <a:srgbClr val="262626"/>
                    </a:solidFill>
                    <a:latin typeface="Arial"/>
                  </a:endParaRPr>
                </a:p>
              </p:txBody>
            </p:sp>
          </p:grpSp>
          <p:sp>
            <p:nvSpPr>
              <p:cNvPr id="157" name="Text Box 14"/>
              <p:cNvSpPr/>
              <p:nvPr/>
            </p:nvSpPr>
            <p:spPr>
              <a:xfrm>
                <a:off x="6518880" y="185544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700" spc="-1" strike="noStrike">
                    <a:solidFill>
                      <a:srgbClr val="262626"/>
                    </a:solidFill>
                    <a:latin typeface="Arial Narrow"/>
                  </a:rPr>
                  <a:t>Resource </a:t>
                </a:r>
                <a:br>
                  <a:rPr sz="700"/>
                </a:br>
                <a:r>
                  <a:rPr b="0" lang="en-CA" sz="700" spc="-1" strike="noStrike">
                    <a:solidFill>
                      <a:srgbClr val="262626"/>
                    </a:solidFill>
                    <a:latin typeface="Arial Narrow"/>
                  </a:rPr>
                  <a:t>Teacher</a:t>
                </a:r>
                <a:endParaRPr b="0" lang="en-US" sz="700" spc="-1" strike="noStrike">
                  <a:solidFill>
                    <a:srgbClr val="262626"/>
                  </a:solidFill>
                  <a:latin typeface="Arial"/>
                </a:endParaRPr>
              </a:p>
            </p:txBody>
          </p:sp>
          <p:sp>
            <p:nvSpPr>
              <p:cNvPr id="158" name="Text Box 12"/>
              <p:cNvSpPr/>
              <p:nvPr/>
            </p:nvSpPr>
            <p:spPr>
              <a:xfrm>
                <a:off x="5110200" y="2594160"/>
                <a:ext cx="400320" cy="200520"/>
              </a:xfrm>
              <a:prstGeom prst="rect">
                <a:avLst/>
              </a:prstGeom>
              <a:solidFill>
                <a:srgbClr val="99cdf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Coach</a:t>
                </a:r>
                <a:endParaRPr b="0" lang="en-US" sz="700" spc="-1" strike="noStrike">
                  <a:solidFill>
                    <a:srgbClr val="262626"/>
                  </a:solidFill>
                  <a:latin typeface="Arial"/>
                </a:endParaRPr>
              </a:p>
            </p:txBody>
          </p:sp>
        </p:grpSp>
        <p:sp>
          <p:nvSpPr>
            <p:cNvPr id="159" name="Oval 7"/>
            <p:cNvSpPr/>
            <p:nvPr/>
          </p:nvSpPr>
          <p:spPr>
            <a:xfrm rot="277200">
              <a:off x="5906520" y="225828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RAJECTORY</a:t>
              </a:r>
              <a:endParaRPr b="0" lang="en-US" sz="800" spc="-1" strike="noStrike">
                <a:solidFill>
                  <a:srgbClr val="262626"/>
                </a:solidFill>
                <a:latin typeface="Arial"/>
              </a:endParaRPr>
            </a:p>
          </p:txBody>
        </p:sp>
      </p:gr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61"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6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6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6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6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69" name="Picture 6" descr=""/>
          <p:cNvPicPr/>
          <p:nvPr/>
        </p:nvPicPr>
        <p:blipFill>
          <a:blip r:embed="rId1"/>
          <a:stretch/>
        </p:blipFill>
        <p:spPr>
          <a:xfrm>
            <a:off x="644400" y="915840"/>
            <a:ext cx="810108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69"/>
                                        </p:tgtEl>
                                        <p:attrNameLst>
                                          <p:attrName>style.visibility</p:attrName>
                                        </p:attrNameLst>
                                      </p:cBhvr>
                                      <p:to>
                                        <p:strVal val="visible"/>
                                      </p:to>
                                    </p:set>
                                    <p:animEffect filter="fade" transition="in">
                                      <p:cBhvr additive="repl">
                                        <p:cTn id="68"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7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pic>
        <p:nvPicPr>
          <p:cNvPr id="172" name="Picture 4" descr=""/>
          <p:cNvPicPr/>
          <p:nvPr/>
        </p:nvPicPr>
        <p:blipFill>
          <a:blip r:embed="rId1"/>
          <a:stretch/>
        </p:blipFill>
        <p:spPr>
          <a:xfrm>
            <a:off x="1219320" y="1089000"/>
            <a:ext cx="6578640" cy="420372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72"/>
                                        </p:tgtEl>
                                        <p:attrNameLst>
                                          <p:attrName>style.visibility</p:attrName>
                                        </p:attrNameLst>
                                      </p:cBhvr>
                                      <p:to>
                                        <p:strVal val="visible"/>
                                      </p:to>
                                    </p:set>
                                    <p:animEffect filter="fade" transition="in">
                                      <p:cBhvr additive="repl">
                                        <p:cTn id="7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7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8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8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88"/>
                                        </p:tgtEl>
                                        <p:attrNameLst>
                                          <p:attrName>style.visibility</p:attrName>
                                        </p:attrNameLst>
                                      </p:cBhvr>
                                      <p:to>
                                        <p:strVal val="visible"/>
                                      </p:to>
                                    </p:set>
                                    <p:animEffect filter="fade" transition="in">
                                      <p:cBhvr additive="repl">
                                        <p:cTn id="82"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9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9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What do you think makes effective Board Improvement Planning for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post-it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42334-A101-4A78-93FD-C749020EE707}"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DA5C0-5316-432F-BB70-FD4B290163A9}"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27T22:09:12Z</dcterms:modified>
  <cp:revision>24</cp:revision>
  <dc:subject/>
  <dc:title>PLMLC Leadership Series  Thunder Bay Region Day 1</dc:title>
</cp:coreProperties>
</file>